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93F2-82FE-4B88-9E77-9D33648DB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2C86-EDF5-47D7-8836-2BCA37304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CA86-13B7-408A-958F-D9CE030D7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F5E1-B1BA-4F0D-8877-7A4722975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2125-AEEE-481C-9759-D5958C404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D43D-454D-4A53-A87A-86588953A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61A7-FD94-4449-BF6A-FEBE46DB0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5609-2F9E-4E83-A1E8-CC35FEE61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26D3-70CD-4F83-9F36-7E6713E61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F87B-3575-4C63-957E-DE402669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3278-85E7-4CB1-B8DE-413E718E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C591-1943-47D8-A6AC-FF76AD14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E2EEC-39E9-48DA-9D09-77A20488A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998040" y="63388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D2A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38080" y="2971800"/>
            <a:ext cx="769644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96120" y="3041640"/>
            <a:ext cx="737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pare the Personnel Estim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380880"/>
            <a:ext cx="80773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77480" y="298440"/>
            <a:ext cx="732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ents of Personnel Estim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39200" y="1235160"/>
            <a:ext cx="87804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o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  Troop preparedness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 strength mainte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lac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combatant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dier personnel read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s support (Health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nel Service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45760" y="62848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D2A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457200"/>
            <a:ext cx="7925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48880" y="374760"/>
            <a:ext cx="732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ents of Personnel Estim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7640" y="1311120"/>
            <a:ext cx="61606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o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tional cli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i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orale/Motivation/Tru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he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.  Assum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629400" y="6248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457200"/>
            <a:ext cx="76960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48880" y="374760"/>
            <a:ext cx="732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ents of Personnel Estim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-291600" y="1487520"/>
            <a:ext cx="8927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o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is of courses of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ison of courses of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s/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ation of staff offi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exes (as requi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143000" y="533520"/>
            <a:ext cx="70866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20160" y="450720"/>
            <a:ext cx="635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ordination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95440" y="1665360"/>
            <a:ext cx="39474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nel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acement S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M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WR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2, 3, 4,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13120" y="1589040"/>
            <a:ext cx="377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REG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SB/ES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FSG-Fi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OM/WSM/M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sion Surge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l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219320" y="304920"/>
            <a:ext cx="70866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67880" y="457200"/>
            <a:ext cx="635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ordination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2560" y="1752480"/>
            <a:ext cx="306216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o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C S1/CDR/C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 C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 B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613560" y="6284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304920"/>
            <a:ext cx="75438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68400" y="222120"/>
            <a:ext cx="542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iefing Consid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6800" y="1055520"/>
            <a:ext cx="7247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thorough as time permits (Reme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/3 – 2/3 ru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lit Brief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he commander needs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ire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rdination (Sub-Units and staff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t unit strength with color: Green, Red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ber and Bl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62120" y="380880"/>
            <a:ext cx="7543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68400" y="298440"/>
            <a:ext cx="542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iefing Consid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5720" y="1382760"/>
            <a:ext cx="835704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rse of action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d/distinct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ight criteria as appropr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ative discussion of advantag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disadvantages of each 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s estimates vs. gain projections for each 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689880" y="6284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304920"/>
            <a:ext cx="784836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44720" y="298440"/>
            <a:ext cx="542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iefing Consid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3920" y="1311120"/>
            <a:ext cx="8855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o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concerns from a personnel point of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problems – know how long they w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to fix and what’s being done to fix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 tell boss 90% of strength is okay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ys look for 1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33520" y="304920"/>
            <a:ext cx="7848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16120" y="298440"/>
            <a:ext cx="542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iefing Consid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6440" y="1284120"/>
            <a:ext cx="77896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o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focus on tac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orrect solution, only degrees of favor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r uses staff estimates, personal knowledg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ethical considerations when deciding 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preparing Commander’s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ously up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14400" y="304920"/>
            <a:ext cx="74674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96800" y="365040"/>
            <a:ext cx="652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rminal Learning Obj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960" y="1512720"/>
            <a:ext cx="911160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on:  Prepare the Personnel Estim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s: Given a requirement to prep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ersonnel Estimate and access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M 101-5 and FM 101-10-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:  Prepare the Personnel Estimate to incl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basic concepts that guide preparation of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nel Estimate and define the contents and u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Personnel Estimate IAW FM 101-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FM 101-10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143000" y="380880"/>
            <a:ext cx="73152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14160" y="450720"/>
            <a:ext cx="652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rminal Learning Obj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-82800" y="1792440"/>
            <a:ext cx="925596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: Prepare the Personnel Estim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itions: Given a requirement to prepare the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and access to FM 101-5 and FM 101-10-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: Prepare the Personnel Estimate to include def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concepts that guide preparation of the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and define the contents and uses of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nel Estimate IAW FM 101-5 and FM 101-10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143000" y="609480"/>
            <a:ext cx="70866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43480" y="579600"/>
            <a:ext cx="5461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sonnel Estima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46280" y="1992240"/>
            <a:ext cx="7483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rsonnel Estimate analyzes personnel and administrative factors on soldier and unit effectiveness as they affect accomplishment of the mi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90720" y="457200"/>
            <a:ext cx="716256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08040" y="457200"/>
            <a:ext cx="5578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ff Estimat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23320" y="1447920"/>
            <a:ext cx="701100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ually pertain to staff officer’s particular areas of inte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includ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nel est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ligence est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s est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stics est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vil-military operations est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s-FSC, C-E, OPSEC, PSYOPS- a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62120" y="685800"/>
            <a:ext cx="739116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35560" y="685800"/>
            <a:ext cx="718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ff Officer Responsi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2520" y="1844640"/>
            <a:ext cx="8579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, without prejudice, fears or em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with other staff offic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hange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thorough as time per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3520" y="304920"/>
            <a:ext cx="81532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25720" y="347760"/>
            <a:ext cx="691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litary Decision-Making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3040" y="1335240"/>
            <a:ext cx="4639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pt of 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ion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rse of Actio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rse of Action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rse of Action Compar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rse of Action Appro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s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6320" y="304920"/>
            <a:ext cx="899136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60" y="546120"/>
            <a:ext cx="90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er and Staff Actions to Making and Execu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9640" y="1382760"/>
            <a:ext cx="463536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nder’s Actions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s or deduces 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s mission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ates 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es initial planning guid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nder’s Estim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ing dec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ves plans/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72960" y="1382760"/>
            <a:ext cx="42447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1’s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liminary consideration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nel sit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 of personnel sit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hanges information within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s enemy capabil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s our courses of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s personnel estim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personnel plans and P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tion of admin/log plans/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7200" y="380880"/>
            <a:ext cx="815328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48880" y="374760"/>
            <a:ext cx="732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ents of Personnel Estim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-305280" y="1387440"/>
            <a:ext cx="100036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nel Estimate No.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: Maps, charts, or other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ituation and 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Intelligence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 of the area of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my strengths and dispo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my cap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09480" y="457200"/>
            <a:ext cx="76201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74360" y="450720"/>
            <a:ext cx="732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ents of Personnel Estim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6920" y="1311120"/>
            <a:ext cx="8872200" cy="47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o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 Tacti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osition of major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courses of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ed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 Logistics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 Civil-military operations (CMO)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6T22:33:43Z</dcterms:created>
  <dc:creator>mike.a.williams</dc:creator>
  <dc:description/>
  <dc:language>en-US</dc:language>
  <cp:lastModifiedBy>Administrator</cp:lastModifiedBy>
  <dcterms:modified xsi:type="dcterms:W3CDTF">2005-08-15T18:05:54Z</dcterms:modified>
  <cp:revision>1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23991822</vt:r8>
  </property>
  <property fmtid="{D5CDD505-2E9C-101B-9397-08002B2CF9AE}" pid="3" name="_AuthorEmail">
    <vt:lpwstr>herbert.m.lenton@us.army.mil</vt:lpwstr>
  </property>
  <property fmtid="{D5CDD505-2E9C-101B-9397-08002B2CF9AE}" pid="4" name="_AuthorEmailDisplayName">
    <vt:lpwstr>Lenton, Herbert SFC</vt:lpwstr>
  </property>
  <property fmtid="{D5CDD505-2E9C-101B-9397-08002B2CF9AE}" pid="5" name="_EmailSubject">
    <vt:lpwstr>Personnel Estimate VGT's</vt:lpwstr>
  </property>
  <property fmtid="{D5CDD505-2E9C-101B-9397-08002B2CF9AE}" pid="6" name="_ReviewingToolsShownOnce">
    <vt:lpwstr/>
  </property>
</Properties>
</file>